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FD54-96E3-42D6-ACC3-D31D3B4A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D0AB-644D-41B3-96A1-2D333CDB3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BF3-412F-4C70-AE03-CCCC4309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3D9-E556-4584-B14B-40050A95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050-5B24-4892-952C-92B68844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56E-303E-490B-837E-48A199A7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9327-BAE0-4523-876C-A9E0E569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9BF4-03CD-41E8-ABAE-2226D52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2BC8-B691-4C57-93CA-1B429979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3253-66C4-49B3-995F-FFAE61F4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D67C-C36A-4FF8-82E2-70C0FD92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C273-ECC3-41A8-B1F8-2663392E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5E0C-B7F1-4F8E-A4C3-A7DBA3B0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F1E-6CEA-4A9E-B5A2-3C21B1B4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B58D-A060-4B49-AC73-8F45461C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BE47-E31E-4930-8269-B83471A4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09F7-9372-49E7-B2AC-8A220578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EA70-DC74-41EF-B9CB-FA4C5196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F4A9-A85D-4DA7-9B06-2808C29A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D23-5D39-4B94-9495-4EB4E1D1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C80-D310-45E9-88DB-2FFD6EF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F54-CB63-43E6-AF3E-6F3017D7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9D9-3E16-4975-9E66-69D3DB0E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927-C9B4-4FE9-9980-AE4314FD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55B-5516-4E08-89C3-40A54C9E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B10-BE8B-46CC-8018-72DA6608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11B0-0A8E-4EF2-B5DB-0E2A0FDFC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38AA-0C6D-438D-A06F-2EB339093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academic.marist.edu/~jzmz/HematologyI/Inclusions12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 caused by increased breakdown of erythrocy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роф. др Снежана Живанчевић Симон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biliru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553440" cy="4913280"/>
          </a:xfrm>
          <a:prstGeom prst="rect">
            <a:avLst/>
          </a:prstGeom>
          <a:ln w="38160">
            <a:solidFill>
              <a:srgbClr val="ff990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globin ca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catabolism of porphyrin from hemoglobin, CO is created (it is the only source of CO in the human bod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of decomposed heme produces 1 mol of CO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genous formation of CO corresponds to the degree of destruction of ERYTHROCITE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O in the form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xyhemoglob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rried to the lungs by the blood (to be removed from the body)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iculocyt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iculocytosis reflects erythroid hyperplasia of the bone marro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2534760"/>
            <a:ext cx="7772400" cy="325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rane disorders –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ranopath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deficiency –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opath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 of hemoglobin synthesis –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globinopath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hemoly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hemolytic anemia Membranopath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spherocytosi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elliptocytosi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pyropoikilocytosi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stomatocytosi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acanthocytosis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2259000"/>
            <a:ext cx="7772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enetically determined dise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aused by a lack of membrane proteins (spectrin, ankyrin, 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ospholipid layer of the membrane forms vesicles that are detached from the surface of the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rface of the membrane decreases, "loss of erythrocyte membrane" and loss of biconcave shap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spherocytosis (membrane protein de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5000 prevalence in Norther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somal dominant (2/3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somal recessiv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novo mut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spherocytosis (membrane protein de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 microsco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Fig2A"/>
          <p:cNvPicPr/>
          <p:nvPr/>
        </p:nvPicPr>
        <p:blipFill>
          <a:blip r:embed="rId1"/>
          <a:stretch/>
        </p:blipFill>
        <p:spPr>
          <a:xfrm>
            <a:off x="685800" y="2209680"/>
            <a:ext cx="3543480" cy="3137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Fig2B"/>
          <p:cNvPicPr/>
          <p:nvPr/>
        </p:nvPicPr>
        <p:blipFill>
          <a:blip r:embed="rId2"/>
          <a:stretch/>
        </p:blipFill>
        <p:spPr>
          <a:xfrm>
            <a:off x="4572000" y="2209680"/>
            <a:ext cx="3886200" cy="31194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990720" y="5562720"/>
            <a:ext cx="29718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ЕRYTHROC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spherocytosis (membrane protein de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105520" y="5715000"/>
            <a:ext cx="350496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er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743200" y="59436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57200" y="4038480"/>
            <a:ext cx="1828800" cy="3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spherocytosis (membrane protein de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5" descr="case3p2"/>
          <p:cNvPicPr/>
          <p:nvPr/>
        </p:nvPicPr>
        <p:blipFill>
          <a:blip r:embed="rId1"/>
          <a:stretch/>
        </p:blipFill>
        <p:spPr>
          <a:xfrm>
            <a:off x="3505320" y="1523880"/>
            <a:ext cx="3276360" cy="4889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228600" y="2212200"/>
            <a:ext cx="3124080" cy="575640"/>
          </a:xfrm>
          <a:prstGeom prst="rect">
            <a:avLst/>
          </a:prstGeom>
          <a:solidFill>
            <a:srgbClr val="f8f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17280" bIns="-17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2124"/>
                </a:solidFill>
                <a:latin typeface="Times New Roman"/>
                <a:ea typeface="Times New Roman"/>
              </a:rPr>
              <a:t>reticulocytes-blue, spherocytes-red arro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-457200" y="-225000"/>
            <a:ext cx="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2520"/>
            <a:ext cx="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case3p2b"/>
          <p:cNvPicPr/>
          <p:nvPr/>
        </p:nvPicPr>
        <p:blipFill>
          <a:blip r:embed="rId1"/>
          <a:stretch/>
        </p:blipFill>
        <p:spPr>
          <a:xfrm>
            <a:off x="4876920" y="2057400"/>
            <a:ext cx="411948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Inclusions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981080"/>
            <a:ext cx="4238640" cy="2870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culocy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cytes live 90-120 days, after which they are removed from the circul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t 3 million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thory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appear from circulation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condition accompanied by a shorter life of erythrocytes due to their increased or premature decomposition is call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if it is accompanied by a decrease in the value of hemoglobin below physiological limits, it is call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tic anemia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SIS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ranopath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28400" y="1357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iptocyto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in dimers combine poorly into tetra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and the Mediterran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-100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c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57840" y="92844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opoikilocyto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hemolytic anemia in infants in early childhood, Pronounced poikilocytosis (similar to bur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rcd%20PB%20H%20elliptocytosis%20a"/>
          <p:cNvPicPr/>
          <p:nvPr/>
        </p:nvPicPr>
        <p:blipFill>
          <a:blip r:embed="rId1"/>
          <a:stretch/>
        </p:blipFill>
        <p:spPr>
          <a:xfrm>
            <a:off x="642960" y="3643200"/>
            <a:ext cx="3657600" cy="2721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Elliptocytosis"/>
          <p:cNvPicPr/>
          <p:nvPr/>
        </p:nvPicPr>
        <p:blipFill>
          <a:blip r:embed="rId2"/>
          <a:stretch/>
        </p:blipFill>
        <p:spPr>
          <a:xfrm>
            <a:off x="4724280" y="3581280"/>
            <a:ext cx="378144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2534760"/>
            <a:ext cx="7772400" cy="325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rane disorders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ranopath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deficiency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opath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 of hemoglobin synthesis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globinopat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hemoly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hemolytic anemia Enzymopath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16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lysis enzyme deficiency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e-6-phosphate dehydrogenas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xokinas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e-phosphate isomerase, phosphofructokinas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l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ose phosphate isomeras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aldehyde-3-phosphate dehydrogenase, phosphoglycerate kinas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bisphosphoglycerate mutas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las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uvate kinase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-360" y="0"/>
            <a:ext cx="29520" cy="87480"/>
          </a:xfrm>
          <a:prstGeom prst="rect">
            <a:avLst/>
          </a:prstGeom>
          <a:solidFill>
            <a:srgbClr val="f8f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17280" bIns="-17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lysis enzyme deficiency: general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 from glycolysis is the only source of energy in the erythrocyt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erythrocyte morpholog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osmotic resistance of fresh erythrocytes, Partial response to splenectom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 from other tissues and organs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G6PD"/>
          <p:cNvPicPr/>
          <p:nvPr/>
        </p:nvPicPr>
        <p:blipFill>
          <a:blip r:embed="rId1"/>
          <a:stretch/>
        </p:blipFill>
        <p:spPr>
          <a:xfrm>
            <a:off x="914400" y="1752480"/>
            <a:ext cx="7277040" cy="310068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/>
          <p:cNvSpPr/>
          <p:nvPr/>
        </p:nvSpPr>
        <p:spPr>
          <a:xfrm flipH="1" flipV="1">
            <a:off x="2362320" y="3504600"/>
            <a:ext cx="1828800" cy="1600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28600" y="52578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e-6-phosphate dehydrogenase deficiency(G6P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438280" y="5184720"/>
            <a:ext cx="5867640" cy="880560"/>
          </a:xfrm>
          <a:prstGeom prst="rect">
            <a:avLst/>
          </a:prstGeom>
          <a:solidFill>
            <a:srgbClr val="f8f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17280" bIns="-17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202124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202124"/>
                </a:solidFill>
                <a:latin typeface="Times New Roman"/>
                <a:ea typeface="Times New Roman"/>
              </a:rPr>
              <a:t>nder normal conditions, 1% of G6P goes into the pentose-monophosphate pathway</a:t>
            </a:r>
            <a:r>
              <a:rPr b="0" lang="sr-Latn-RS" sz="2000" spc="-1" strike="noStrike">
                <a:solidFill>
                  <a:srgbClr val="202124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2124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202124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202124"/>
                </a:solidFill>
                <a:latin typeface="Times New Roman"/>
                <a:ea typeface="Times New Roman"/>
              </a:rPr>
              <a:t>n oxidative stress 1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Hexose Monophosphate Shunt"/>
          <p:cNvPicPr/>
          <p:nvPr/>
        </p:nvPicPr>
        <p:blipFill>
          <a:blip r:embed="rId1"/>
          <a:stretch/>
        </p:blipFill>
        <p:spPr>
          <a:xfrm>
            <a:off x="3581280" y="2666880"/>
            <a:ext cx="4496040" cy="34894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7"/>
          <p:cNvSpPr/>
          <p:nvPr/>
        </p:nvSpPr>
        <p:spPr>
          <a:xfrm>
            <a:off x="5105520" y="609588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3200400" y="27432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2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2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3429000" y="51055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5257800" y="5181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3276720" y="60958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6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3505320" y="365760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5257800" y="365760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SS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880" y="990720"/>
            <a:ext cx="8763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utathione (GSH) is the main defense agent against oxidative damage by H2O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DPH is generated in the pentose-phosphate pathway with the help of G6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3352680" y="6019920"/>
            <a:ext cx="24386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>
            <a:off x="2209680" y="3352680"/>
            <a:ext cx="152640" cy="2438640"/>
          </a:xfrm>
          <a:custGeom>
            <a:avLst/>
            <a:gdLst>
              <a:gd name="textAreaLeft" fmla="*/ 97560 w 152640"/>
              <a:gd name="textAreaRight" fmla="*/ 153000 w 1526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3375000" y="3801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3276720" y="5791320"/>
            <a:ext cx="3808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6PD and the glutathione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52280" y="3508920"/>
            <a:ext cx="1981440" cy="925920"/>
          </a:xfrm>
          <a:prstGeom prst="rect">
            <a:avLst/>
          </a:prstGeom>
          <a:solidFill>
            <a:srgbClr val="f8f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17280" bIns="-17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02124"/>
                </a:solidFill>
                <a:latin typeface="inherit"/>
              </a:rPr>
              <a:t>Pentose-phosphate pathw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8584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ide the period of hemolysis, patients are clinically and hematologically norm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tic "crises" during oxidative str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undice and dark urine within 6-24 hou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s of acute hemolytic anemia in G6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04920" y="1600200"/>
            <a:ext cx="8624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exogenous fa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fhydryl groups of hemoglobin are oxidized to disulfide or sulfoxide group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tion of denatured hemoglobin, irreversible membrane damage and lysi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sis can b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ascu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emoglobinemia and hemoglobinuria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vascu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 the RES of the spleen) in case of greater erythrocyte damage (splenomegal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physiology of acute hemolytic anemia in G6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nital hemolytic anemia hemoglobin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ynthesis (or reduced synthesis) of one or more globin chai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expression is heterogeneous within each syndr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alpha and 4 beta thalassemia syndrom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α thalassemia syndrome (healthy carrier, ... Hydrops foetalis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β thalassemia syndromes (healthy carrier, ..., β thalassemia maio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d hemoly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tic hemolytic anem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tic anemia caused by biological agent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tic anemia caused by chemical agents (toxic effects on the erythrocyte membrane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plenis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emolytic anemia mediated by immune mech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SIS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15235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ortened lifespan of erythrocytes is a consequence of hereditary or acquired disorders of erythrocytes that make it impossible to maintain their biconcave shape necessary for flexibility when passing through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s in the marginal zone and red pulp of the spleen, i blood vessel gaps in microcirculation that are narrower than the diameter of erythrocy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tic hemoly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219320"/>
            <a:ext cx="883908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hemolys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age of erythrocytes when passing through very narrow blood vessels on the surface of the body, under which there is a hard substrate – b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hemo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1676160"/>
            <a:ext cx="861048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"marsh" hemoglobinemia and hemoglobinu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a long march, erythrocytes pass through the narrow blood vessels of the feet and lower legs, which are compressed by shoes and soc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plasma volume and erythrocyte m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extraction of oxygen in the muscles, increased generation of 2,3 DPG by erythrocytes and shift of the oxygen dissociation curve to the r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y of oxygen to the tissues is improv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4284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tic cardiac hemoly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28400" y="1828440"/>
            <a:ext cx="842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sis in about 10% of patients with an artificial mitral or aortic val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blood flows through the mechanical valve, erythrocyte damage and clinical signs of hemolysis occ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to the greater pressure gradient, hemolysis is more pronounced in patients with an aortic val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d hemoly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tic hemolytic anem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tic anemia caused by biological agent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tic anemia caused by chemical agents (toxic effects on the erythrocyte membrane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plenis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molytic anemia mediated by immune mech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sis caused by biological ag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direct invasion of infectious agent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a - malaria)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releasing hemolytic toxin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tridium perfringens-Welchii, E.coli, Salmonella typhi, Hemophilus influenze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reating antibodies against erythrocyte antigens of viral infections: (</a:t>
            </a:r>
            <a:r>
              <a:rPr b="0" i="1" lang="sl-SI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BV, Coxacie, CMV, herpes  simplex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a as a cause of hemo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ommon form due to direct invasion plasmodium</a:t>
            </a:r>
            <a:r>
              <a:rPr b="1" lang="sl-SI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vax, malarie, falciparum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growt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ve damage of erythrocyte lipid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uction in the sple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uti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(primaquine and some sulfonates) as therapy of choice may lead to hemolysis in G-6-PD deficient pati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001000" y="2428920"/>
            <a:ext cx="838080" cy="3808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tridium as a cause of hemo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Clostridium</a:t>
            </a:r>
            <a:r>
              <a:rPr b="1" lang="sr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in patients with septic abor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asionally in acute inflammation of the gallbladder (acute cholecystitis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s phospholipase that destroys lecithin (inside the erythrocyte membrane)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hemolysis occurs, often fatal - more than 50% (serum can be bright red and urine mahogany in color)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: microspherocytosis, leukocytosis with a left shift, thrombocytopenia, and severe renal and hepatic impairment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tic anemias caused by chemical ag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42800" y="1218960"/>
            <a:ext cx="8701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senic hydride poisoning, used in the gas industry (severe anemia, hemoglobinuria and jaundice occur after inhala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 poisoning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 occurs due to the inhibition of heme synthesi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inhibition of the pyrimidine 5-nucleotidase enzyme, basophilic punctures occur in erythrocytes (important in diagnostic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ss copper in Wilson's disease or during dialysis (when water with a high concentration of copper is used): inhibits enzymes in erythrocy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14200" y="1428840"/>
            <a:ext cx="868680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nomegaly, increased destruction of blood (and erythrocytes) as a result of accumulation of blood in a relatively unfavorable environment full of phagocytes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equestration of blood in the spleen causes cytopenia </a:t>
            </a:r>
            <a:r>
              <a:rPr b="0" lang="sr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:                  </a:t>
            </a:r>
            <a:r>
              <a:rPr b="1" lang="sr-Latn-RS" sz="2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Hypersple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and congestive splenomegaly is often associated with moderate shortening of erythrocyte life span, with significant granulocytopenia and thrombocytop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enectomy is indicated if cytopenias are accompanied by symptoms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857680" y="3286080"/>
            <a:ext cx="747360" cy="45720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ple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immune hemolytic anem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econd type of hypersensi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hird type of hypersensi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physiological classification of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breakdown of erythrocyt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puscular anemia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cyte membrane disorders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ranopath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enzyme structure disorders (enzymopath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globin structure disorders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globinopat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acorpuscular anemia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caused by physical and chemical factor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d by infection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d by antibodi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ple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type of hyper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binding of antibodies to the cell membrane, the following occu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ation of the complement syste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hagocytosi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ntibody-dependent cytotoxicity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DCC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type II hyper"/>
          <p:cNvPicPr/>
          <p:nvPr/>
        </p:nvPicPr>
        <p:blipFill>
          <a:blip r:embed="rId1"/>
          <a:stretch/>
        </p:blipFill>
        <p:spPr>
          <a:xfrm>
            <a:off x="1979640" y="1484280"/>
            <a:ext cx="5038560" cy="53737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type of hyper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type of hyper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9680" y="1571400"/>
            <a:ext cx="8286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s of the second type of hypersensitivity are involved in the pathogenes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usion reactions (in case of blood transfusion of incompatible blood groups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tic disease of the newborn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immune hemolytic anemia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F16-14"/>
          <p:cNvPicPr/>
          <p:nvPr/>
        </p:nvPicPr>
        <p:blipFill>
          <a:blip r:embed="rId1"/>
          <a:stretch/>
        </p:blipFill>
        <p:spPr>
          <a:xfrm>
            <a:off x="228600" y="1143000"/>
            <a:ext cx="8550360" cy="45831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1439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tic disease of the new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tic anemias mediated by immune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6760" y="1447560"/>
            <a:ext cx="8358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 of anti-erythrocyte antibodi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d alloantibodies after transfusion or pregnancy (directed against allogeneic erythrocytes)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bodies are directed against own erythrocytes that are activated at body T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IHA with "warm" (IgG) antibodies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bodies are directed against own erythrocytes that are activated in the cold (2-4C) = IHA with "cold" (IgM) antibodies (cold agglutinin disease), 10-20% of patients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ies synthesized after drug administration (autoimmune and hapten form)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 evidence that hemolysis is mediated by immune mech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85520" y="2209680"/>
            <a:ext cx="7429320" cy="320040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mbs antiglobulin tes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oombs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based on the ability of antibodies specific to immunoglobulins (specifically IgG) or complement components (specifically C3) to agglutinate RBCs when IgG and C3 are present on the RB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st measures the ability of anti-IgG i anti-C3 antisera to bind to the erythrocyte membrane and cause agglutin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oombs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1752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roof of free antibodies in the patient's plasma (which are not bound to the erythrocyte membra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ing the test: normal erythrocytes are incubated with the patient's blood, and then a direct Coombs test is perform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hemolytic anem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the flo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emolytic an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hemolytic an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sis may occu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28195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ascular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erythrocyte lysis in the circulation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vascular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erythrocyte lysis in the macrophage system of the spleen and liver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1028"/>
          <p:cNvSpPr/>
          <p:nvPr/>
        </p:nvSpPr>
        <p:spPr>
          <a:xfrm>
            <a:off x="2438280" y="29718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29"/>
          <p:cNvSpPr/>
          <p:nvPr/>
        </p:nvSpPr>
        <p:spPr>
          <a:xfrm>
            <a:off x="2438280" y="37339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genesis of hemoly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520" y="1676520"/>
            <a:ext cx="8620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concavity and bendability of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c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onditional :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rmal structure of the erythrocyte membran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 of the proteins of the erythrocyte skeleton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lysis in erythrocytes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ity of erythrocyte cytoplas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560" y="228240"/>
            <a:ext cx="9001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globin catabolis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me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4200" y="142884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e catabol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rphyrin r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nverted into the bile pigment bilirub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rub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xcreted via bile (urobilinogen, stercobilinogen)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n is relea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art binds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rit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s stored until the next us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part binds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r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s transported to the bone marrow where it is used for the synthesis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hemoglob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in proteolysis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 acids are released, which are reused for protein synth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3352680" y="1447920"/>
            <a:ext cx="976320" cy="3808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3429000" y="4952880"/>
            <a:ext cx="976320" cy="3812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mposition of erythrocy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22240" y="1036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47720" y="1349280"/>
            <a:ext cx="23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, spleen and bone m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419720" y="2057400"/>
            <a:ext cx="0" cy="838080"/>
          </a:xfrm>
          <a:prstGeom prst="line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509280" y="2895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3344760" y="3274200"/>
            <a:ext cx="474840" cy="690480"/>
          </a:xfrm>
          <a:prstGeom prst="line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5085720" y="3281040"/>
            <a:ext cx="494640" cy="676440"/>
          </a:xfrm>
          <a:prstGeom prst="line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3200400" y="4419720"/>
            <a:ext cx="0" cy="609480"/>
          </a:xfrm>
          <a:prstGeom prst="line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703600" y="3976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264040" y="49672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1986840" y="5943600"/>
            <a:ext cx="21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 of 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242680" y="394344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826320" y="39434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ver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7467480" y="4419720"/>
            <a:ext cx="0" cy="609480"/>
          </a:xfrm>
          <a:prstGeom prst="line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5715000" y="4343400"/>
            <a:ext cx="0" cy="609480"/>
          </a:xfrm>
          <a:prstGeom prst="line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5290560" y="4929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6095880" y="594360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533520" y="990720"/>
            <a:ext cx="807696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4503240" y="2233440"/>
            <a:ext cx="247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gocytosis and 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5" descr=""/>
          <p:cNvPicPr/>
          <p:nvPr/>
        </p:nvPicPr>
        <p:blipFill>
          <a:blip r:embed="rId1"/>
          <a:stretch/>
        </p:blipFill>
        <p:spPr>
          <a:xfrm>
            <a:off x="3886200" y="1311120"/>
            <a:ext cx="1066680" cy="746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1" name="Text Box 15"/>
          <p:cNvSpPr/>
          <p:nvPr/>
        </p:nvSpPr>
        <p:spPr>
          <a:xfrm>
            <a:off x="6040440" y="518148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in the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30"/>
          <p:cNvCxnSpPr>
            <a:stCxn id="111" idx="3"/>
          </p:cNvCxnSpPr>
          <p:nvPr/>
        </p:nvCxnSpPr>
        <p:spPr>
          <a:xfrm flipV="1">
            <a:off x="3048120" y="1683720"/>
            <a:ext cx="838800" cy="1980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Straight Arrow Connector 31"/>
          <p:cNvCxnSpPr>
            <a:stCxn id="121" idx="3"/>
            <a:endCxn id="122" idx="1"/>
          </p:cNvCxnSpPr>
          <p:nvPr/>
        </p:nvCxnSpPr>
        <p:spPr>
          <a:xfrm>
            <a:off x="6006600" y="4142880"/>
            <a:ext cx="816840" cy="252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0:56:24Z</dcterms:created>
  <dc:creator>Simonovic</dc:creator>
  <dc:description/>
  <dc:language>en-US</dc:language>
  <cp:lastModifiedBy>Korisnik</cp:lastModifiedBy>
  <dcterms:modified xsi:type="dcterms:W3CDTF">2023-08-08T12:28:22Z</dcterms:modified>
  <cp:revision>48</cp:revision>
  <dc:subject/>
  <dc:title>Slide 1</dc:title>
</cp:coreProperties>
</file>