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CF39-7E4F-44E9-9743-5A00236B3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641-906D-48B7-B2B1-F8AFB535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590-0417-42EE-8926-07B9B8B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CA8-2800-4C6C-8FC1-AD1E3789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067-DFD0-4D48-BCA5-5CB66E50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525-70ED-48CA-A1DC-02772E3E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408-4857-4E56-B30B-E8BB2E03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7C5-C9DB-4C95-88C7-BB481708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31B-9470-4910-A26A-3E5613D3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C40-0606-4E25-A584-371C0043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A8C-4756-47DE-9313-30938F7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FED-A1B6-455E-8A26-806DDD96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01F-5181-4060-9E8F-C061B8D9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24B1-5216-4CDB-984C-C9481E423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physiology of bloo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blood cell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оф др Снежана Живанчевић Симон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685800" y="228600"/>
            <a:ext cx="36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poi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e1"/>
          <p:cNvPicPr/>
          <p:nvPr/>
        </p:nvPicPr>
        <p:blipFill>
          <a:blip r:embed="rId1"/>
          <a:stretch/>
        </p:blipFill>
        <p:spPr>
          <a:xfrm>
            <a:off x="4500720" y="2997360"/>
            <a:ext cx="4643280" cy="2109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685800" y="1828800"/>
            <a:ext cx="352908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Proerythroblast</a:t>
            </a:r>
            <a:r>
              <a:rPr b="0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first morphologically recognized cell of erythropoi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ose chrom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everial s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contain visible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large number of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3520" y="228600"/>
            <a:ext cx="367164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rythropoi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2708280"/>
            <a:ext cx="39672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Basophillic erythrobl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nsation of chromatin begins in this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either a nucleus nor nucle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visible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large number of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2"/>
          <p:cNvPicPr/>
          <p:nvPr/>
        </p:nvPicPr>
        <p:blipFill>
          <a:blip r:embed="rId1"/>
          <a:stretch/>
        </p:blipFill>
        <p:spPr>
          <a:xfrm>
            <a:off x="4500720" y="2997360"/>
            <a:ext cx="46432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09480" y="0"/>
            <a:ext cx="3672000" cy="29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poi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e3"/>
          <p:cNvPicPr/>
          <p:nvPr/>
        </p:nvPicPr>
        <p:blipFill>
          <a:blip r:embed="rId1"/>
          <a:stretch/>
        </p:blipFill>
        <p:spPr>
          <a:xfrm>
            <a:off x="4356000" y="2997360"/>
            <a:ext cx="47880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228600" y="2209680"/>
            <a:ext cx="3967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Polychromatophillic erythrobl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higher chromatin cond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reducter number of 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higher amount of hemoglobin wich gives acidophillity to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85800" y="0"/>
            <a:ext cx="3672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rythripoi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4"/>
          <p:cNvPicPr/>
          <p:nvPr/>
        </p:nvPicPr>
        <p:blipFill>
          <a:blip r:embed="rId1"/>
          <a:stretch/>
        </p:blipFill>
        <p:spPr>
          <a:xfrm>
            <a:off x="4500720" y="2924280"/>
            <a:ext cx="4643280" cy="2181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28600" y="2057400"/>
            <a:ext cx="41148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Acidophillic erythrobl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pyknous degeneration of the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80% of total Hb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reduced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omes a reticulocyte after the nucleus has been expe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533520" y="0"/>
            <a:ext cx="3671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rythropoi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1752480"/>
            <a:ext cx="46483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Reticulocy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ot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ytoplasm of reticulocytes contains mitochondria,ribosomes and Goldzi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s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eticuloczt matures it loses these organ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s of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20% H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rin receptors are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e5"/>
          <p:cNvPicPr/>
          <p:nvPr/>
        </p:nvPicPr>
        <p:blipFill>
          <a:blip r:embed="rId1"/>
          <a:stretch/>
        </p:blipFill>
        <p:spPr>
          <a:xfrm>
            <a:off x="4284720" y="2133720"/>
            <a:ext cx="4859280" cy="218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em-ret"/>
          <p:cNvPicPr/>
          <p:nvPr/>
        </p:nvPicPr>
        <p:blipFill>
          <a:blip r:embed="rId2"/>
          <a:stretch/>
        </p:blipFill>
        <p:spPr>
          <a:xfrm>
            <a:off x="5148360" y="4581360"/>
            <a:ext cx="266688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57200" y="0"/>
            <a:ext cx="7920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rythroc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28600" y="838080"/>
            <a:ext cx="4419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ot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concav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 12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s oxygen to the tissuesd and carbon dioxide from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cyte ages the intensity of metabolic processes decreases and the rigidity of the membrane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cytes are broken down the most in the spleen then in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e6"/>
          <p:cNvPicPr/>
          <p:nvPr/>
        </p:nvPicPr>
        <p:blipFill>
          <a:blip r:embed="rId1"/>
          <a:stretch/>
        </p:blipFill>
        <p:spPr>
          <a:xfrm>
            <a:off x="4572000" y="1989000"/>
            <a:ext cx="4572000" cy="224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m-rbc"/>
          <p:cNvPicPr/>
          <p:nvPr/>
        </p:nvPicPr>
        <p:blipFill>
          <a:blip r:embed="rId2"/>
          <a:stretch/>
        </p:blipFill>
        <p:spPr>
          <a:xfrm>
            <a:off x="5580000" y="4292640"/>
            <a:ext cx="2914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blood cell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cyth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A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cyth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s an excess of all blood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dition in wich the total volume of blood and erythrocytes and blood viscosity are incre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cythemia is divided int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Relativ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plasma volume and unchanged erythrocyte volum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volume of erythrocyt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Primary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cythemia rubra ver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econdary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ccurs with increased production of erythropoietin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cythemia rubra v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disorder at the pluripotent stem cel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Е</a:t>
            </a: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rythrocytosis, thrombocytosis, leukocyt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are caused by increased blood viscosity, and icreased total volum of blood, blood plasma volume is norm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polycyth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s increased production of erythrocytes caused by increased secretion of erythropoietin in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hypoxia in cardiopulmonary dise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 breathing air with a low partial pressure  of oxy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evelopment of kidney tumors that secrete erythropoie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logical basics: creation and breakdown of erythroc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cythemia and Erythrocyt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and division of a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s caused by disorders in the formation of erythroc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nemias caused by increased breakdown of erythroc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 is a term used in clinical practice for reduced hemoglobin concentration ,reduced number of erythrocytes and reduced hematoc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Definition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concentration of hemoglobin in peripherial bl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in the mass of erythrocytes in peripherial bl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 is a condition characterized by a reduced abillity of the blood to carry oxygen due to a reduced amount of Hb.Anemia is not a diagnosis but an objective sign of the present disease.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diagnosis of anemia the first step is to determine the existence and severity of anemia, and the second step is to determine the pathogenesis of anem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24000" y="1484280"/>
            <a:ext cx="493380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Reference values</a:t>
            </a: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Hb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±20 g/l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±20 g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Hct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.42 – 0.4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0.39 – 0.4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Er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4.2 – 5.8 x 10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3.9 – 5.2 x 10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334120" y="1916280"/>
            <a:ext cx="3630600" cy="5026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mportant parameters</a:t>
            </a:r>
            <a:r>
              <a:rPr b="1" lang="sr-Latn-C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MCV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ct / br Er    (83 -99f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MCH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b / br Er     (28 – 32 p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MCHC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b / Hct     (32 – 36 g/dl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physiological classification of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ias occur as a con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urbances in the formation of 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reakdown of 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Acute or chronic blood lo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physiological classification of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Disorder of the creation Er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rupt the reproduction and differentiation of hematopoietic stem cell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astic anemi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 of reproduction and differentiation of unipotent stem cell destined for erythropoi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 or reproduction and differentiation of morphologically recognized precursors of erythropoiesis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loblastic anemi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 of hemoglobin synthesis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globin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Unknown or multifactorial cause</a:t>
            </a:r>
            <a:r>
              <a:rPr b="1" lang="sr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diseases,eating disorder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physiological classification of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ncreased breakdown of Er</a:t>
            </a:r>
            <a:r>
              <a:rPr b="1" lang="sr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Corpuscular anemi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the Er membfra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enzym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hemoglobin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Е</a:t>
            </a: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xtracorpuscular anemi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ed by physical and chemical factors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ed by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s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ed by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bodies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ple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 flipV="1">
            <a:off x="898560" y="1052280"/>
            <a:ext cx="7345440" cy="727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3402000" y="4721400"/>
            <a:ext cx="1828800" cy="533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5265720" y="3530520"/>
            <a:ext cx="2590920" cy="5335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3173400" y="2166840"/>
            <a:ext cx="2362320" cy="5335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684360" y="3149640"/>
            <a:ext cx="1523880" cy="1143000"/>
          </a:xfrm>
          <a:prstGeom prst="ellipse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82320" y="1557360"/>
            <a:ext cx="4343400" cy="1371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ocyt a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V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4419720" y="3048120"/>
            <a:ext cx="4343400" cy="1371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ocyt an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V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2182680" y="4721400"/>
            <a:ext cx="4343400" cy="1371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cyt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V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912960" y="34383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1415880" y="5013360"/>
            <a:ext cx="793800" cy="15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1415880" y="429264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9"/>
          <p:cNvSpPr/>
          <p:nvPr/>
        </p:nvSpPr>
        <p:spPr>
          <a:xfrm>
            <a:off x="1415880" y="2421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0"/>
          <p:cNvSpPr/>
          <p:nvPr/>
        </p:nvSpPr>
        <p:spPr>
          <a:xfrm>
            <a:off x="1415880" y="2421000"/>
            <a:ext cx="870120" cy="1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>
            <a:off x="2209680" y="3809880"/>
            <a:ext cx="2271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ical clasification of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Classification of anemia according to erythrocyte morphology and HGB conte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Normocytic normochromic a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Macrocytic normochromic a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Mycrocytic normochromic a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mechanisms of the body in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Shift of the oxyhemoglobin dissociation curve to the right about to the synthesis 2,3 diphosphoglycerol, wich reduces the affinity of hemoglobin for oxyg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Adaptation of the cardiovascular syste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periph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stribution of blood to vital organs,heart and br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cent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cardiac 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ncreased production or erythropoie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Decrease in physical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Hyperventi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11280" y="1159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and signs of 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01760" y="1576440"/>
            <a:ext cx="3593520" cy="174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12760" indent="-21276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49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logical fati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49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ziness,wea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49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49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rder or cognitiv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653080" y="1271520"/>
            <a:ext cx="2576520" cy="134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12760" indent="-21276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urbance of T lymphocyte and macrophag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653080" y="2743200"/>
            <a:ext cx="3200400" cy="215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5360" indent="-2253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pulmona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224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pnea on ex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224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 and palp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224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muscle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224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pulse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Aft>
                <a:spcPts val="224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of worsening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5040" y="3276720"/>
            <a:ext cx="3195360" cy="107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12760" indent="-21276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intestina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49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49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5105520" y="5334120"/>
            <a:ext cx="3270240" cy="9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12760" indent="-212760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i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24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menstr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24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lib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19040" y="4549680"/>
            <a:ext cx="3252960" cy="107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12760" indent="-21276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49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100000"/>
              </a:lnSpc>
              <a:spcAft>
                <a:spcPts val="249"/>
              </a:spcAft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4438440" y="6394320"/>
            <a:ext cx="4502520" cy="2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rano iz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dwig H, Fritz E. Semin Oncol 1998;25(Suppl. 7):2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3533760" y="1300320"/>
            <a:ext cx="1974960" cy="4505040"/>
          </a:xfrm>
          <a:prstGeom prst="rect">
            <a:avLst/>
          </a:prstGeom>
          <a:ln w="0">
            <a:noFill/>
          </a:ln>
        </p:spPr>
      </p:pic>
      <p:sp>
        <p:nvSpPr>
          <p:cNvPr id="171" name="Line 11"/>
          <p:cNvSpPr/>
          <p:nvPr/>
        </p:nvSpPr>
        <p:spPr>
          <a:xfrm flipV="1">
            <a:off x="2570040" y="1292400"/>
            <a:ext cx="1785960" cy="4572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2951280" y="3120840"/>
            <a:ext cx="1520640" cy="2286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4424400" y="1521000"/>
            <a:ext cx="1084320" cy="30456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2798640" y="4416120"/>
            <a:ext cx="1287720" cy="22860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 flipH="1" flipV="1">
            <a:off x="4349520" y="3557520"/>
            <a:ext cx="1158840" cy="123984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H="1">
            <a:off x="4424400" y="2359080"/>
            <a:ext cx="1084320" cy="144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 flipV="1">
            <a:off x="826920" y="906840"/>
            <a:ext cx="7345440" cy="7308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580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liquid connective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in color and has a salty t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lume of blood is 5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Blood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and soluble substances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ts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нчевинеproteins,nutriens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mones,metabolic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-causing agents and drugs can be found in the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Bloo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WINDOWS\Desktop\Školska knjiga - prezentacije\Školska knjiga - slike - originali\Osmi razred - naknadno\krvozilni\epruveta.jpg"/>
          <p:cNvPicPr/>
          <p:nvPr/>
        </p:nvPicPr>
        <p:blipFill>
          <a:blip r:embed="rId1"/>
          <a:stretch/>
        </p:blipFill>
        <p:spPr>
          <a:xfrm>
            <a:off x="5410080" y="1981080"/>
            <a:ext cx="2778120" cy="3992760"/>
          </a:xfrm>
          <a:prstGeom prst="rect">
            <a:avLst/>
          </a:prstGeom>
          <a:ln w="0">
            <a:noFill/>
          </a:ln>
        </p:spPr>
      </p:pic>
      <p:sp>
        <p:nvSpPr>
          <p:cNvPr id="55" name="Line 6"/>
          <p:cNvSpPr/>
          <p:nvPr/>
        </p:nvSpPr>
        <p:spPr>
          <a:xfrm flipH="1">
            <a:off x="6400800" y="4419720"/>
            <a:ext cx="129528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6400800" y="5410080"/>
            <a:ext cx="129528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620120" y="4114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lood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20120" y="5105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Bloo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J:\Sandy_Schnee\msoffice\My Projects\Shier 10e Human 2004\DCM\3rd batch from comp\chapter_14\art_library\color_art_library\14_16.jpg"/>
          <p:cNvPicPr/>
          <p:nvPr/>
        </p:nvPicPr>
        <p:blipFill>
          <a:blip r:embed="rId1"/>
          <a:srcRect l="0" t="0" r="0" b="15000"/>
          <a:stretch/>
        </p:blipFill>
        <p:spPr>
          <a:xfrm>
            <a:off x="152280" y="1143000"/>
            <a:ext cx="8458200" cy="5391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Comic Sans MS"/>
              </a:rPr>
              <a:t>K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26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27"/>
          <p:cNvSpPr/>
          <p:nvPr/>
        </p:nvSpPr>
        <p:spPr>
          <a:xfrm>
            <a:off x="380880" y="25146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28"/>
          <p:cNvSpPr/>
          <p:nvPr/>
        </p:nvSpPr>
        <p:spPr>
          <a:xfrm>
            <a:off x="297180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6248520" y="2514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30" descr="C:\WINDOWS\Desktop\Školska knjiga - prezentacije\Školska knjiga - slike - originali\Osmi razred - naknadno\krvozilni\eritr.jpg"/>
          <p:cNvPicPr/>
          <p:nvPr/>
        </p:nvPicPr>
        <p:blipFill>
          <a:blip r:embed="rId1"/>
          <a:stretch/>
        </p:blipFill>
        <p:spPr>
          <a:xfrm>
            <a:off x="990720" y="3505320"/>
            <a:ext cx="1950840" cy="126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31" descr="C:\WINDOWS\Desktop\Školska knjiga - prezentacije\Školska knjiga - slike - originali\Osmi razred - naknadno\krvozilni\leuko.jpg"/>
          <p:cNvPicPr/>
          <p:nvPr/>
        </p:nvPicPr>
        <p:blipFill>
          <a:blip r:embed="rId2"/>
          <a:stretch/>
        </p:blipFill>
        <p:spPr>
          <a:xfrm>
            <a:off x="3581280" y="4724280"/>
            <a:ext cx="1951200" cy="12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32" descr="C:\WINDOWS\Desktop\Školska knjiga - prezentacije\Školska knjiga - slike - originali\Osmi razred - naknadno\krvozilni\ploc.jpg"/>
          <p:cNvPicPr/>
          <p:nvPr/>
        </p:nvPicPr>
        <p:blipFill>
          <a:blip r:embed="rId3"/>
          <a:stretch/>
        </p:blipFill>
        <p:spPr>
          <a:xfrm>
            <a:off x="6324480" y="3429000"/>
            <a:ext cx="1951200" cy="1262160"/>
          </a:xfrm>
          <a:prstGeom prst="rect">
            <a:avLst/>
          </a:prstGeom>
          <a:ln w="0">
            <a:noFill/>
          </a:ln>
        </p:spPr>
      </p:pic>
      <p:cxnSp>
        <p:nvCxnSpPr>
          <p:cNvPr id="69" name="AutoShape 1033"/>
          <p:cNvCxnSpPr>
            <a:stCxn id="62" idx="2"/>
            <a:endCxn id="63" idx="0"/>
          </p:cNvCxnSpPr>
          <p:nvPr/>
        </p:nvCxnSpPr>
        <p:spPr>
          <a:xfrm rot="5400000">
            <a:off x="2761560" y="704880"/>
            <a:ext cx="991440" cy="2629440"/>
          </a:xfrm>
          <a:prstGeom prst="curvedConnector5">
            <a:avLst>
              <a:gd name="adj1" fmla="val 49981"/>
              <a:gd name="adj2" fmla="val 49993"/>
              <a:gd name="adj3" fmla="val 49981"/>
            </a:avLst>
          </a:prstGeom>
          <a:ln w="38160">
            <a:solidFill>
              <a:srgbClr val="31859c"/>
            </a:solidFill>
            <a:miter/>
            <a:tailEnd len="med" type="triangle" w="med"/>
          </a:ln>
        </p:spPr>
      </p:cxnSp>
      <p:cxnSp>
        <p:nvCxnSpPr>
          <p:cNvPr id="70" name="AutoShape 1034"/>
          <p:cNvCxnSpPr>
            <a:stCxn id="62" idx="2"/>
            <a:endCxn id="64" idx="0"/>
          </p:cNvCxnSpPr>
          <p:nvPr/>
        </p:nvCxnSpPr>
        <p:spPr>
          <a:xfrm flipH="1">
            <a:off x="4570200" y="1525680"/>
            <a:ext cx="3600" cy="2286720"/>
          </a:xfrm>
          <a:prstGeom prst="straightConnector1">
            <a:avLst/>
          </a:prstGeom>
          <a:ln w="38160">
            <a:solidFill>
              <a:srgbClr val="215968"/>
            </a:solidFill>
            <a:miter/>
            <a:tailEnd len="med" type="triangle" w="med"/>
          </a:ln>
        </p:spPr>
      </p:cxnSp>
      <p:cxnSp>
        <p:nvCxnSpPr>
          <p:cNvPr id="71" name="AutoShape 1035"/>
          <p:cNvCxnSpPr>
            <a:stCxn id="62" idx="2"/>
            <a:endCxn id="65" idx="0"/>
          </p:cNvCxnSpPr>
          <p:nvPr/>
        </p:nvCxnSpPr>
        <p:spPr>
          <a:xfrm flipH="1" rot="16200000">
            <a:off x="5467320" y="628200"/>
            <a:ext cx="991440" cy="2782080"/>
          </a:xfrm>
          <a:prstGeom prst="curvedConnector5">
            <a:avLst>
              <a:gd name="adj1" fmla="val 49981"/>
              <a:gd name="adj2" fmla="val 49993"/>
              <a:gd name="adj3" fmla="val 49981"/>
            </a:avLst>
          </a:prstGeom>
          <a:ln w="38160">
            <a:solidFill>
              <a:srgbClr val="31859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22200" y="1206360"/>
            <a:ext cx="8499600" cy="3910320"/>
          </a:xfrm>
          <a:prstGeom prst="rect">
            <a:avLst/>
          </a:prstGeom>
          <a:ln w="0">
            <a:noFill/>
          </a:ln>
        </p:spPr>
      </p:pic>
      <p:sp>
        <p:nvSpPr>
          <p:cNvPr id="73" name="Freeform 3"/>
          <p:cNvSpPr/>
          <p:nvPr/>
        </p:nvSpPr>
        <p:spPr>
          <a:xfrm>
            <a:off x="1519200" y="2259000"/>
            <a:ext cx="1116000" cy="757080"/>
          </a:xfrm>
          <a:prstGeom prst="pie">
            <a:avLst/>
          </a:prstGeom>
          <a:noFill/>
          <a:ln cap="rnd" w="25560">
            <a:solidFill>
              <a:srgbClr val="ff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4"/>
          <p:cNvSpPr/>
          <p:nvPr/>
        </p:nvSpPr>
        <p:spPr>
          <a:xfrm>
            <a:off x="1519200" y="3287880"/>
            <a:ext cx="1362240" cy="1128600"/>
          </a:xfrm>
          <a:prstGeom prst="pie">
            <a:avLst/>
          </a:prstGeom>
          <a:noFill/>
          <a:ln cap="rnd" w="25560">
            <a:solidFill>
              <a:srgbClr val="ff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"/>
          <p:cNvSpPr/>
          <p:nvPr/>
        </p:nvSpPr>
        <p:spPr>
          <a:xfrm>
            <a:off x="4938840" y="2254320"/>
            <a:ext cx="330120" cy="745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6"/>
          <p:cNvSpPr/>
          <p:nvPr/>
        </p:nvSpPr>
        <p:spPr>
          <a:xfrm>
            <a:off x="4848120" y="2581200"/>
            <a:ext cx="384120" cy="889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7"/>
          <p:cNvSpPr/>
          <p:nvPr/>
        </p:nvSpPr>
        <p:spPr>
          <a:xfrm>
            <a:off x="4994280" y="2976480"/>
            <a:ext cx="438120" cy="525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8"/>
          <p:cNvSpPr/>
          <p:nvPr/>
        </p:nvSpPr>
        <p:spPr>
          <a:xfrm>
            <a:off x="4638600" y="3154320"/>
            <a:ext cx="962280" cy="1429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"/>
          <p:cNvSpPr/>
          <p:nvPr/>
        </p:nvSpPr>
        <p:spPr>
          <a:xfrm>
            <a:off x="4838760" y="3774960"/>
            <a:ext cx="484200" cy="14940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4834080" y="4118040"/>
            <a:ext cx="661680" cy="612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017960" y="2193840"/>
            <a:ext cx="7491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921120" y="2409840"/>
            <a:ext cx="9032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alibri"/>
              </a:rPr>
              <a:t>B lymphocyte precurs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280040" y="2879640"/>
            <a:ext cx="5428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alibri"/>
              </a:rPr>
              <a:t>erythrocy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3716280" y="3071880"/>
            <a:ext cx="731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alibri"/>
              </a:rPr>
              <a:t>Granulocy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3962520" y="3860640"/>
            <a:ext cx="703080" cy="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alibri"/>
              </a:rPr>
              <a:t>Lymphocite 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487680" y="4025880"/>
            <a:ext cx="11955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alibri"/>
              </a:rPr>
              <a:t>Home 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3476520" y="1587600"/>
            <a:ext cx="2703600" cy="1850760"/>
          </a:xfrm>
          <a:prstGeom prst="pie">
            <a:avLst/>
          </a:prstGeom>
          <a:noFill/>
          <a:ln cap="rnd" w="25560">
            <a:solidFill>
              <a:srgbClr val="ff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8"/>
          <p:cNvSpPr/>
          <p:nvPr/>
        </p:nvSpPr>
        <p:spPr>
          <a:xfrm>
            <a:off x="3505320" y="4038480"/>
            <a:ext cx="1612800" cy="480960"/>
          </a:xfrm>
          <a:prstGeom prst="pie">
            <a:avLst/>
          </a:prstGeom>
          <a:noFill/>
          <a:ln cap="rnd" w="25560">
            <a:solidFill>
              <a:srgbClr val="ff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0"/>
          <p:cNvSpPr/>
          <p:nvPr/>
        </p:nvSpPr>
        <p:spPr>
          <a:xfrm>
            <a:off x="5010120" y="4216320"/>
            <a:ext cx="1440" cy="7308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opoi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rcRect l="1963" t="4595" r="1989" b="0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RYTHROPOI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e bone marrow produces about 200 billion erythrocytes per 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cytes lives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0-</a:t>
            </a: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20 da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after wich they are removed from the circ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million erythrocytes dissapear from the circulation every sec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bone marrow has the ability to increase the production of erythrocytes 6 to 8 times as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Reticulocytosis reflects erythroid hyperplasia of the bone mar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041800" y="0"/>
            <a:ext cx="4102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28600" y="147600"/>
            <a:ext cx="5181480" cy="48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rythropoi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reproduction and differe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 – 32 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reduction by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l reduction of mitochondrial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ncrease in the amount of hemoglobin and gradual degeneration of the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ophillic erythroblast can no longer divide but hemoglobin synthesis continues i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236000" y="1773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236000" y="3068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236000" y="4076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236000" y="5084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23600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48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9:43:50Z</dcterms:created>
  <dc:creator>Simonovic</dc:creator>
  <dc:description/>
  <dc:language>en-US</dc:language>
  <cp:lastModifiedBy>Korisnik</cp:lastModifiedBy>
  <dcterms:modified xsi:type="dcterms:W3CDTF">2023-08-08T13:26:57Z</dcterms:modified>
  <cp:revision>77</cp:revision>
  <dc:subject/>
  <dc:title>Slide 1</dc:title>
</cp:coreProperties>
</file>